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8.xml.rels" ContentType="application/vnd.openxmlformats-package.relationships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8A62-4A31-4B4C-BC69-AE072B7977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7C7C-969A-4FE7-BC03-75573FA93B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29B6-1EF5-449A-B9F4-15759998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CAF-F568-4C22-8FB6-C88B2054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591-02FE-47AA-BC36-EF272887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2E6-8C77-484D-8B81-A18907F1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9A3-0241-4A41-B61B-0FEDB4E2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AA98-C34E-43C0-806B-E764C059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F801-C753-4F23-BB55-1B87F803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3CB-52B8-4E01-A8ED-1DD3EAC1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832-2171-4529-8E8B-6C3B7BF8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E097-4281-4878-9070-AA562A3B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31E-55D9-4BFF-A81F-0E2B05B7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7ABD-B834-4E6C-BFFA-B75F10AC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6724-43EA-4081-86BF-B7BEB7A5A70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2130120"/>
            <a:ext cx="8286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работка и реализация индивидуальных образовательных маршрутов (АООП) для детей с ОВЗ и инвалидностью в образовательной организ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71520" y="3886200"/>
            <a:ext cx="5429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alibri"/>
              </a:rPr>
              <a:t>Скуратовская М.Л., зав. кафедрой «Дефектология и инклюзивное образование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7f7f"/>
                </a:solidFill>
                <a:latin typeface="Calibri"/>
              </a:rPr>
              <a:t>ФГБОУ ВО «Донской государственный технический университ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м федерального учебно-методического объединения по общему образованию </a:t>
            </a:r>
            <a:r>
              <a:rPr b="1" lang="ru-RU" sz="32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одобрен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основные общеобразовательные программы дошкольного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Протокол № 6/17 от 7.12.2017 г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ные адаптированные образовательные программы направлены 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условий развития ребенка, открывающих возможности для его позитивной социализации, его личностного развития, развития инициативы и творческих способностей на основе сотрудничества со взрослыми и сверстниками и соответствующим возрасту видам деятель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оздание развивающей образовательной среды, которая представляет собой систему условий социализации и индивидуал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АО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образовательной модели, обеспечивающей полноценное и разностороннее развитие личности каждого реб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бразования ДО</a:t>
            </a:r>
            <a:br>
              <a:rPr sz="4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компенсирующей направлен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4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82296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комбинированной направл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Содержимое 4" descr=""/>
          <p:cNvPicPr/>
          <p:nvPr/>
        </p:nvPicPr>
        <p:blipFill>
          <a:blip r:embed="rId1"/>
          <a:stretch/>
        </p:blipFill>
        <p:spPr>
          <a:xfrm>
            <a:off x="444600" y="1590840"/>
            <a:ext cx="82422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общеразвивающей направленности,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ую, по желанию родителей и по </a:t>
            </a: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ению ПМПК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 один ребенок с ОВЗ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4" descr=""/>
          <p:cNvPicPr/>
          <p:nvPr/>
        </p:nvPicPr>
        <p:blipFill>
          <a:blip r:embed="rId1"/>
          <a:stretch/>
        </p:blipFill>
        <p:spPr>
          <a:xfrm>
            <a:off x="414360" y="1590840"/>
            <a:ext cx="830268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357200"/>
          <a:ext cx="8229600" cy="3405240"/>
        </p:xfrm>
        <a:graphic>
          <a:graphicData uri="http://schemas.openxmlformats.org/drawingml/2006/table">
            <a:tbl>
              <a:tblPr/>
              <a:tblGrid>
                <a:gridCol w="1542960"/>
                <a:gridCol w="6686640"/>
              </a:tblGrid>
              <a:tr h="145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О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руппы компенсирующей направл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6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комбинированной направл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компенсирующей направл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1357200"/>
          <a:ext cx="8229600" cy="3405240"/>
        </p:xfrm>
        <a:graphic>
          <a:graphicData uri="http://schemas.openxmlformats.org/drawingml/2006/table">
            <a:tbl>
              <a:tblPr/>
              <a:tblGrid>
                <a:gridCol w="1542960"/>
                <a:gridCol w="6686640"/>
              </a:tblGrid>
              <a:tr h="145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О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О, реализующие АОО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ы, реализующие АОО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6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О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сы инклюзивного обра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ООП                                     АО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8" descr="C:\Users\Ulmart\Desktop\Архангелск\scrn_big_1.jpg"/>
          <p:cNvPicPr/>
          <p:nvPr/>
        </p:nvPicPr>
        <p:blipFill>
          <a:blip r:embed="rId1"/>
          <a:stretch/>
        </p:blipFill>
        <p:spPr>
          <a:xfrm>
            <a:off x="468360" y="1844640"/>
            <a:ext cx="4700520" cy="4589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C:\Users\Ulmart\Desktop\Архангелск\iGNAWFGEY.jpg"/>
          <p:cNvPicPr/>
          <p:nvPr/>
        </p:nvPicPr>
        <p:blipFill>
          <a:blip r:embed="rId2"/>
          <a:stretch/>
        </p:blipFill>
        <p:spPr>
          <a:xfrm>
            <a:off x="5148360" y="1844640"/>
            <a:ext cx="3744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. 2.11.2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ГОС ДО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организации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клюзивного образования по основаниям, не связанным с ОВ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тражено в ст. 42 ФЗ-27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выделение данного раздела не является обязательным; в случае же его выделения содержание данного раздела определяется ОО с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лава 2, Статья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.4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Российской Федерации устанавливаются следующи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ровни общего образова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 дошкольно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начальное обще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основное общее образова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среднее общее образо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иентиры при составлении АО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использование методов обучения и воспитания, адекватных возрасту ребенка с ОВЗ, его физическому и психическому состояни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оздание оптимальных условий совместного обучения детей с ОВЗ и их нормально развивающихся сверстников (без ОВЗ и ООП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использование адекватных вспомогательных средств и педагогических прием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организацию совместных форм работы воспитателей, педагогов-психологов, учителей-логопедов, учителей-дефектологов и на другие ориенти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З 273 статья 79.3….специальными условия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56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пециальных образовательных программ и методов обучения и воспита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х учебников, учебных пособий и дидактических материало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х технических средств обучения коллективного и индивидуального пользован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услуг ассистента (помощника), оказывающего обучающимся необходимую техническую помощ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групповых и индивидуальных коррекционных заняти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доступа в здания организаций, осуществляющих образовательную деятельност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условия, без которых невозможно или затруднено освоение образовательных программ обучающимися с ОВ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пециальных образовательных услов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1" name="Прямая со стрелкой 21"/>
          <p:cNvCxnSpPr/>
          <p:nvPr/>
        </p:nvCxnSpPr>
        <p:spPr>
          <a:xfrm>
            <a:off x="4571640" y="3141360"/>
            <a:ext cx="1080" cy="143640"/>
          </a:xfrm>
          <a:prstGeom prst="straightConnector1">
            <a:avLst/>
          </a:prstGeom>
          <a:ln w="7632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132" name="Группа 30"/>
          <p:cNvGrpSpPr/>
          <p:nvPr/>
        </p:nvGrpSpPr>
        <p:grpSpPr>
          <a:xfrm>
            <a:off x="318960" y="1628640"/>
            <a:ext cx="8640720" cy="4996080"/>
            <a:chOff x="318960" y="1628640"/>
            <a:chExt cx="8640720" cy="4996080"/>
          </a:xfrm>
        </p:grpSpPr>
        <p:sp>
          <p:nvSpPr>
            <p:cNvPr id="133" name="Овал 3"/>
            <p:cNvSpPr/>
            <p:nvPr/>
          </p:nvSpPr>
          <p:spPr>
            <a:xfrm>
              <a:off x="2911320" y="3284280"/>
              <a:ext cx="3311640" cy="1657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Специальные образовательные услов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Овал 4"/>
            <p:cNvSpPr/>
            <p:nvPr/>
          </p:nvSpPr>
          <p:spPr>
            <a:xfrm>
              <a:off x="6080040" y="4292640"/>
              <a:ext cx="2879640" cy="1800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entury Gothic"/>
                </a:rPr>
                <a:t>Организация психолого-педагогического сопровожд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Овал 5"/>
            <p:cNvSpPr/>
            <p:nvPr/>
          </p:nvSpPr>
          <p:spPr>
            <a:xfrm>
              <a:off x="3198600" y="5229360"/>
              <a:ext cx="2881080" cy="139536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Социальное партнерств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Овал 6"/>
            <p:cNvSpPr/>
            <p:nvPr/>
          </p:nvSpPr>
          <p:spPr>
            <a:xfrm>
              <a:off x="318960" y="4508640"/>
              <a:ext cx="2592360" cy="16574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Материально-техническое обеспе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Овал 7"/>
            <p:cNvSpPr/>
            <p:nvPr/>
          </p:nvSpPr>
          <p:spPr>
            <a:xfrm>
              <a:off x="3055680" y="1628640"/>
              <a:ext cx="2950920" cy="144000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Финансово-экономическое обеспеч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Овал 8"/>
            <p:cNvSpPr/>
            <p:nvPr/>
          </p:nvSpPr>
          <p:spPr>
            <a:xfrm>
              <a:off x="318960" y="1989000"/>
              <a:ext cx="2663640" cy="15112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entury Gothic"/>
                </a:rPr>
                <a:t>Нормативно-правовое сопровожд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Овал 9"/>
            <p:cNvSpPr/>
            <p:nvPr/>
          </p:nvSpPr>
          <p:spPr>
            <a:xfrm>
              <a:off x="6080040" y="1915920"/>
              <a:ext cx="2519280" cy="1512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Кадровое обеспече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" name="Прямая со стрелкой 15"/>
            <p:cNvCxnSpPr/>
            <p:nvPr/>
          </p:nvCxnSpPr>
          <p:spPr>
            <a:xfrm>
              <a:off x="2406240" y="3429000"/>
              <a:ext cx="721440" cy="28800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1" name="Прямая со стрелкой 17"/>
            <p:cNvCxnSpPr/>
            <p:nvPr/>
          </p:nvCxnSpPr>
          <p:spPr>
            <a:xfrm flipV="1">
              <a:off x="2766960" y="4652280"/>
              <a:ext cx="505440" cy="21636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2" name="Прямая со стрелкой 25"/>
            <p:cNvCxnSpPr/>
            <p:nvPr/>
          </p:nvCxnSpPr>
          <p:spPr>
            <a:xfrm flipV="1">
              <a:off x="4639680" y="4941360"/>
              <a:ext cx="1080" cy="21636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3" name="Прямая со стрелкой 27"/>
            <p:cNvCxnSpPr/>
            <p:nvPr/>
          </p:nvCxnSpPr>
          <p:spPr>
            <a:xfrm flipH="1">
              <a:off x="6006600" y="3283920"/>
              <a:ext cx="505440" cy="43236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44" name="Прямая со стрелкой 29"/>
            <p:cNvCxnSpPr/>
            <p:nvPr/>
          </p:nvCxnSpPr>
          <p:spPr>
            <a:xfrm flipH="1">
              <a:off x="6079680" y="4365360"/>
              <a:ext cx="792720" cy="1080"/>
            </a:xfrm>
            <a:prstGeom prst="straightConnector1">
              <a:avLst/>
            </a:prstGeom>
            <a:ln w="76320">
              <a:solidFill>
                <a:srgbClr val="4a7ebb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ое обеспе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мплектованность образовательного учреждения педагогическими и руководящими работниками, компетентными в понимании особых образовательных потребностей детей с ОВЗ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квалификации педагогических и иных работников образовательного учреждения в области образования детей с ОВЗ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сть профессионального развития педагогических работников образовательного учреждения в сфере коррекционной (специальной) педагогики, специальной психологии и клинической детской псих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248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о-техническое обеспечение</a:t>
            </a:r>
            <a:br>
              <a:rPr sz="32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560" y="980640"/>
            <a:ext cx="8569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риально-технические условия реализации </a:t>
            </a:r>
            <a:r>
              <a:rPr b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аптированной образовательной программы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обеспечивать соблюдение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гигиенических норм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го процесса с учетом потребностей детей с ОВЗ, обучающихся в данном учреждении (требования к водоснабжению, канализации, освещению, воздушно-тепловому режиму и т. д.)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для </a:t>
            </a: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препятственного доступа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с ограниченными возможностями здоровья к объектам инфраструктуры образовательного учреждения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бытовых условий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потребностей детей с ОВЗ, обучающихся в данном учреждении (наличие оборудованных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ардеробов, санузлов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ест личной гигиены и т. д.)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бытовых условий с учетом конкретных потребностей ребенка с ОВЗ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учающегося в данном учреждении (наличие адекватно оборудованного пространства школьного учреждения, </a:t>
            </a:r>
            <a:r>
              <a:rPr b="0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чего места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бенка, и т. д.)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и электробезопасности, с учетом потребностей детей с ОВЗ, обучающихся в данном учреждении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беспечение реализации АООП/АОП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50560" y="134136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 объеме определяемых органами государственной власти субъектов Российской Федерации нормативов обеспечения государственных гарантий реализации прав на получение общедоступного и бесплатного общего образ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ми условиями получения образования (кадровыми, материально-техническими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ами на оплату труда работников, реализующих АООП/АОП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ами на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едства обучения и воспитания, коррекции (компенсации) нарушений развития, включающими расходные и дидактические материалы, оборудование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арь, электронные ресурсы, оплату услуг связи, в том числе расходами, связанными с подключением к информационно-телекоммуникационной сети "Интернет"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ами, связанными с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ительным профессиональным образованием руководящих и педагогических работнико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их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ми расходами, связанными с реализацией и обеспечением реализации АООП, в том числе с круглосуточным пребыванием обучающихся с ОВЗ в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Содержимое 4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8229600" cy="45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Целевой разде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Планируемые результаты освоения обучающими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ОП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(АООП)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целевые ориентиры в соответствие с ФГОС ДО и учетом психофизического развития де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Развивающее оценивание качества образовательной деятельности по Програм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дварительной подготовке к разработке АООП (АОП) рекомендуем составить следующую рабочую таблиц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8000" y="1700280"/>
          <a:ext cx="8856720" cy="3457440"/>
        </p:xfrm>
        <a:graphic>
          <a:graphicData uri="http://schemas.openxmlformats.org/drawingml/2006/table">
            <a:tbl>
              <a:tblPr/>
              <a:tblGrid>
                <a:gridCol w="1771560"/>
                <a:gridCol w="1771560"/>
                <a:gridCol w="1770120"/>
                <a:gridCol w="1771560"/>
                <a:gridCol w="1771920"/>
              </a:tblGrid>
              <a:tr h="945360">
                <a:tc rowSpan="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анируемые результаты (целевые ориентир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стема оценки (индикаторы оцениван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даг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с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796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652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58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Пояснительная запис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9280" y="836280"/>
            <a:ext cx="878544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 для разработки программы (нормативные документ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«Об образовании в РФ» (от 29.12.2012 № 273-ФЗ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дошкольного образования (приказ МОиН РФ от 17.10.2013 № 1155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ми требованиями к устройству, содержанию и организации режима работы  дошкольных образовательных организаций (утв. Постановлением Главного государственного санитарного врача РФ от 15. 05. 2013 г. № 26) и др.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ая основная общеобразовательная программа. Одобрена ФУМО по общему образованию (протокол от 20.05.2015 № 2/15)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рные адаптированные основные общеобразовательные программы дошкольного образования (протокол № 6/17 от 7.12.2017 г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ая характеристика особенностей психофизиологического развития детей с ОВЗ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(из ФГОС с учетом категории дете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построения программы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атья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4000" y="765000"/>
            <a:ext cx="8640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ая основная образовательная программ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о-методическая документация (примерный учебный план, примерный календарный учебный график, примерные рабочие программы учебных предметов, курсов, дисциплин (модулей), иных компонентов), определяющая рекомендуемые объем и содержание образования определенного уровня и (или) определенной направленности, планируемые результаты освоения образовательной программы, примерные условия образовательной деятельности, включая примерные расчеты нормативных затрат оказания государственных услуг по реализации образовательной програм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Ц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условий развити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абовидящих детей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 (или)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ей с функциональными нарушениями зр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зволяющих обеспечить возможности дл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озитивной социализации, личностного развития, развития инициативы 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х способностей 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е сотрудничества 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ми 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рстниками 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м возрасту видам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Ц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ектирование модел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ой  и коррекционно-развивающей психолого-педагогической работы, максимально обеспечивающей создание условий для развития  детей ЗПР дошкольного возраста  в группах компенсирующей </a:t>
            </a: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 комбинированно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ости, их позитивной социализации, интеллектуального, социально-личностного, художественно-эстетического и физического  развития на основе сотрудничества со взрослыми и сверстниками в соответствующих возрасту видах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Целевые ориенти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ельно, исходя из возрастных и психофизических возможностей детей написать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 годам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имер целевые ориентиры из примерной адаптированной программы для детей с ТН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ая рабо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ен к устойчивому эмоциональному контакту со взрослым и сверстниками…;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коммуникативн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 отдельные ролевые действия, носящие условный характер; участвует в разыгрывании сюжета: цепочки двух-трех действий (воображаемую ситуацию удерживает взрослый);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………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способен самостоятельн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89080" y="1341360"/>
          <a:ext cx="8675640" cy="5178600"/>
        </p:xfrm>
        <a:graphic>
          <a:graphicData uri="http://schemas.openxmlformats.org/drawingml/2006/table">
            <a:tbl>
              <a:tblPr/>
              <a:tblGrid>
                <a:gridCol w="4230360"/>
                <a:gridCol w="444528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го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л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214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и называть основные цве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и называть цвета окружающих предметов и предметных изображе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сить игрушки с цветными и силуэтными изображениям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и называть плоскостные геометрические фигуры (круг, квадрат, треугольник) и объемные геометрические тела (куб, шар)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осить форму предметов ближайшего окружения с геометрическими эталонам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основные цвета, а также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ричневый, черный и белы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цвета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ходить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называть цвета окружающих предметов и предметных изображений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ать и называть …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 объемные геометрические тела (шар, куб, цилиндр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ходить предметы заданной формы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окружающей обстановке и в изображения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Развивающее оценивание качества образовательной деятельности по Програм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оценивани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качества условий образовательной деятель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не предусматривается оценив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SimSun"/>
              </a:rPr>
              <a:t> качества образовательной деятельности организации на основе достижения детьми планируемых результатов освоения Программ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ются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Содержимое 3" descr=""/>
          <p:cNvPicPr/>
          <p:nvPr/>
        </p:nvPicPr>
        <p:blipFill>
          <a:blip r:embed="rId1"/>
          <a:stretch/>
        </p:blipFill>
        <p:spPr>
          <a:xfrm>
            <a:off x="182520" y="1554120"/>
            <a:ext cx="87962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ценки качества дошкольного образования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ие и другие условия реализации основной образовательной програм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рганизации в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и образовательных областя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пределенных Стандарто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 предпочтения и удовлетворен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школьным образованием со стороны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и ребен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а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овани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и индивидуального развития ребенка в контексте оценки работы Организа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Развивающее оценивание качества 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79280" y="1417680"/>
            <a:ext cx="878544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яя оценка, самооценка реализации АООП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мониторинга динамики индивидуального развития детей, динамики их образовательных достижений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ешняя оценка: оценка реализации АООП родителями, анализ форума сайта образовательного учр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утренняя оценка, самооценка реализации АОО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8000" y="1417320"/>
            <a:ext cx="892800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а)анкетирование педагогов удовлетворенностью образовательным процессом в соответствии с ФГОС Д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водится руководителем ОУ и его заместителя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б)самоанализ деятельности образовательного учреждения– проводится руководителем ОУ и его заместителям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)система мониторинга динамики индивидуального  развития детей, динамики их образовательных достиж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 пункту 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огут быть предусмотрен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)анкета для самоанализ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)анкеты для педаг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о пункту в: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)карты обследования детей специалист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)обследование ребенка воспитателем и  музыкальным руководителем, специалистом по физической культуре и др. (может быть зафиксировано в одной карте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атья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3640" y="836640"/>
            <a:ext cx="8569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программ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лекс основных характеристик образования (объем, содержание, планируемые результаты), организационно-педагогических условий и в случаях, предусмотренных настоящим Федеральным законом, форм аттестации, который представлен в виде 1)учебного плана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календарного учебного графи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)рабочих програм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х предметов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с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исциплин (модулей), 4)иных компонентов, а такж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оценочных и методически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ониторинга динамики индивидуального  развития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Объект 3" descr=""/>
          <p:cNvPicPr/>
          <p:nvPr/>
        </p:nvPicPr>
        <p:blipFill>
          <a:blip r:embed="rId1"/>
          <a:stretch/>
        </p:blipFill>
        <p:spPr>
          <a:xfrm>
            <a:off x="201600" y="1365120"/>
            <a:ext cx="885024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ешняя оценка реализации АООП может включать: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оценку реализации АООП родителями (анкетирование)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анализ форума сайта образовательного учреждения (критерии для анализа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ценки качества дошкольного образова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197000"/>
            <a:ext cx="8964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вариатив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м, форм и методов Д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ет, насколько ОП способствует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отношению к ожиданиям ребенка, семьи, педагогов, общества и государ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а педагогами Организации собственной работы и независимая профессиональная и общественная оценк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й образовательной деятельности в ДО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использует единые </a:t>
            </a:r>
            <a:r>
              <a:rPr b="1" i="1" lang="ru-RU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инструменты, оценивающие условия реализации программы</a:t>
            </a:r>
            <a:r>
              <a:rPr b="1" lang="ru-RU" sz="2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 в Организации,  как для самоанализа, так и для внешнего оцени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Содержательный компонент АООП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1. Содержание образовательной работы по пяти образовательным областя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коммуникативное развитие; познавательное развитие; речевое развитие; художественно-эстетическое развитие; физическое развитие, которое зависит от возраста детей: младенческий, ранний, дошкольный). Может быть представлено в виде таблицы, может носить описательный характ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95280" y="4869000"/>
          <a:ext cx="8497800" cy="1444320"/>
        </p:xfrm>
        <a:graphic>
          <a:graphicData uri="http://schemas.openxmlformats.org/drawingml/2006/table">
            <a:tbl>
              <a:tblPr/>
              <a:tblGrid>
                <a:gridCol w="2881440"/>
                <a:gridCol w="5616360"/>
              </a:tblGrid>
              <a:tr h="1047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е об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2.Содержание Вариативной части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29600" cy="161604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ное направление ДО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2.Взаимодействие взрослых с деть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ой является личностно-пораждающее взаимодейств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……………………….(след. слайд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сновными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задачами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социально-коммуникативного развития являются создание условий для: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норм и ценностей, принятых в обществе, включая моральные и нравственные цен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общения и взаимодействия ребёнка со взрослыми и сверстниками доступными возрасту и психофизиологическим особенностям средствам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ения самостоятельности, целенаправленности и саморегуляции собственных действий в игровой деятельност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зитивных установок к различным видам труда и творчеств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снов безопасного поведения в быту, социуме, природ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В сфере усвоения норм и ценностей, принятых в обществе, включая моральные и нравственные цен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создают условия для формирования у ребенка уверенности в себе и своих возможностях. Способствуют развитию у ребенка чувства собственного достоинства, осознанию своих прав и свобод (иметь собственное мнение, выбирать друзей, виды деятельности, иметь личные вещи, по собственному усмотрению использовать личное время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способствуют поддержанию самостоятельности, формированию адекватной самооценки собственной деятельности, поведения, развитию эмоциональной отзывчивости, сопереживания, формированию готовности к совместной деятельности со сверстниками, уважительного отношения и чувства принадлежности к своей семье, к сообществу детей и взрослы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формы взаимодейств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одителями (законными представителями) воспитан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ООП должны быть определены общие направления взаимодействия (частные мероприятия включаются в годовой план ОО и рабочие программы воспитателей и специалист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4149720"/>
          <a:ext cx="8856720" cy="2344680"/>
        </p:xfrm>
        <a:graphic>
          <a:graphicData uri="http://schemas.openxmlformats.org/drawingml/2006/table">
            <a:tbl>
              <a:tblPr/>
              <a:tblGrid>
                <a:gridCol w="1944720"/>
                <a:gridCol w="2484360"/>
                <a:gridCol w="2213280"/>
                <a:gridCol w="2214360"/>
              </a:tblGrid>
              <a:tr h="701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ем осуществля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ая информ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43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ционно-аналитическ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Изучение семьи, выяснение образовательных потребностей родителей д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согласования воспитательных воздействий на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кетирование родителей, педаго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формы взаимодейств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одителями (законными представителями) воспитан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9280" y="1628640"/>
          <a:ext cx="8507520" cy="4197600"/>
        </p:xfrm>
        <a:graphic>
          <a:graphicData uri="http://schemas.openxmlformats.org/drawingml/2006/table">
            <a:tbl>
              <a:tblPr/>
              <a:tblGrid>
                <a:gridCol w="1866960"/>
                <a:gridCol w="2387520"/>
                <a:gridCol w="2125800"/>
                <a:gridCol w="2127240"/>
              </a:tblGrid>
              <a:tr h="1008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ем осуществляе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олнительная информ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8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ие педагогической культуры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дительские собр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сультации специали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нятия откры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ни открытых двер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стер-класс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минар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с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бота с родительскими комите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местная проект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тья 11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Федеральные государственные образовательные стандарты …обеспечивают: 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3.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ариативность содержани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х программ соответствующего уровня образования, возможность формирования образовательных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ограмм различного уровня сложности и направленност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учетом образовательных потребностей и способностей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Содержание коррекционной работы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для групп компенсирующей, комбинированной направленности и включения (инкл. обр.) одного ребенка с ОВЗ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форм, способов, средст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лизации програм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84360" y="1628640"/>
          <a:ext cx="8064360" cy="1454400"/>
        </p:xfrm>
        <a:graphic>
          <a:graphicData uri="http://schemas.openxmlformats.org/drawingml/2006/table">
            <a:tbl>
              <a:tblPr/>
              <a:tblGrid>
                <a:gridCol w="2687400"/>
                <a:gridCol w="5376960"/>
              </a:tblGrid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коррекционно-развивающей рабо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рж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работы каждого специалиста, педаго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147160" cy="3851280"/>
        </p:xfrm>
        <a:graphic>
          <a:graphicData uri="http://schemas.openxmlformats.org/drawingml/2006/table">
            <a:tbl>
              <a:tblPr/>
              <a:tblGrid>
                <a:gridCol w="2089080"/>
                <a:gridCol w="1596960"/>
                <a:gridCol w="1508400"/>
                <a:gridCol w="1512720"/>
                <a:gridCol w="14400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-логопе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дагог-псих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итель-дефект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ая работа с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родите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 У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рганизационный разде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8000" y="836280"/>
            <a:ext cx="8928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 Условия реализации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Режим пребывания воспитанников в групп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Структура реализации образов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.Максимально допустимая образовательная нагрузка воспитанников груп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Методическое обеспечение образовательной деятельности (список литературы, ЭОР, д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Содержимое 3" descr=""/>
          <p:cNvPicPr/>
          <p:nvPr/>
        </p:nvPicPr>
        <p:blipFill>
          <a:blip r:embed="rId1"/>
          <a:stretch/>
        </p:blipFill>
        <p:spPr>
          <a:xfrm>
            <a:off x="182520" y="1554120"/>
            <a:ext cx="87962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1.Психолого-педагогические условия, обеспечивающие развитие ребен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-порождающее взаимодействие взрослых с деть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ность педагогической оценки на относительные показатели детской успеш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игры как важнейшего фактора развития реб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развивающей образовательной ср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алансированность репродуктивной (воспроизводящей готовый образец) и продуктивной (производящей субъективно новый продукт)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семь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е развитие педагог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Прямоугольник 1"/>
          <p:cNvSpPr/>
          <p:nvPr/>
        </p:nvSpPr>
        <p:spPr>
          <a:xfrm>
            <a:off x="220680" y="6407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2.Организация развивающей предметно-пространственной сред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тельно-насыщен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формируем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функциона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C:\Users\Ulmart\Desktop\Архангелск\qdaq_sasybhz_avcpkqd_2.jpg"/>
          <p:cNvPicPr/>
          <p:nvPr/>
        </p:nvPicPr>
        <p:blipFill>
          <a:blip r:embed="rId1"/>
          <a:stretch/>
        </p:blipFill>
        <p:spPr>
          <a:xfrm>
            <a:off x="250920" y="189000"/>
            <a:ext cx="4503600" cy="4503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C:\Users\Ulmart\Desktop\Архангелск\3974.jpg"/>
          <p:cNvPicPr/>
          <p:nvPr/>
        </p:nvPicPr>
        <p:blipFill>
          <a:blip r:embed="rId2"/>
          <a:stretch/>
        </p:blipFill>
        <p:spPr>
          <a:xfrm>
            <a:off x="3780000" y="3284640"/>
            <a:ext cx="471636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C:\Users\Ulmart\Desktop\Архангелск\qo.jpg"/>
          <p:cNvPicPr/>
          <p:nvPr/>
        </p:nvPicPr>
        <p:blipFill>
          <a:blip r:embed="rId1"/>
          <a:stretch/>
        </p:blipFill>
        <p:spPr>
          <a:xfrm>
            <a:off x="826920" y="549360"/>
            <a:ext cx="6121440" cy="3384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Users\Ulmart\Desktop\Архангелск\T2d7GeXhhbXXXXXXXX_!!695329745.jpg"/>
          <p:cNvPicPr/>
          <p:nvPr/>
        </p:nvPicPr>
        <p:blipFill>
          <a:blip r:embed="rId2"/>
          <a:stretch/>
        </p:blipFill>
        <p:spPr>
          <a:xfrm>
            <a:off x="3635280" y="3284640"/>
            <a:ext cx="51926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3.Кадровые услов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(Mинздравсоцразвития России) от 26 августа 2010 г. N 761н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оскв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Единого квалификационного справочника должностей руководителей, специалистов и служащих, раздел "Квалификационные характеристики должностей работников образования"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4.Материально-технически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Содержимое 3" descr=""/>
          <p:cNvPicPr/>
          <p:nvPr/>
        </p:nvPicPr>
        <p:blipFill>
          <a:blip r:embed="rId1"/>
          <a:stretch/>
        </p:blipFill>
        <p:spPr>
          <a:xfrm>
            <a:off x="165240" y="1603440"/>
            <a:ext cx="89913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тья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аптированная образовательная программ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разовательная программа, адаптированная для обучения лиц с ограниченными возможностями здоровья с учетом особенностей их психофизического развития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х возможностей и при необходимости обеспечивающая коррекцию нарушений развит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оциальную адаптацию указанных ли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.5. Финансов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беспечение программы определяется существующей нормативной документацией (федеральной, регионально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94920" y="54900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.Режим пребывания воспитанников в групп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Структура реализации образовательн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4.Максимально допустимая образовательная нагрузка воспитанников груп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.Методическое обеспечение образовательной деятельности (список литературы, ЭОР, др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тья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йся с ограниченными возможностями здоровь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зическое лицо, имеющее недостатки в физическом и (или) психическом развитии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твержденные психолого-медико-педагогической комисси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епятствующие получению образования без создания специальных услов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ментарии к ФГОС дошкольного образования. Минобрнауки России от 28 февраля 2014 года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№08-249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4268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Д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. Программа разрабатывается и утверждается Организацией самостоятельно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настоящим Стандартом и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учётом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х програм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ный в разде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нкта 2.5. ФГОС ДО, а также в ФЗ-273 термин «с учетом» означает право и предоставленную Организации возможность ознакомиться с существующими примерными программами, оценить их пригодность для своей образовательной деятельности и принять решение об использовании или неиспользовании данных примерных программ при разработке программы (программ) ДО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м федерального учебно-методического объединения по общему образованию </a:t>
            </a:r>
            <a:r>
              <a:rPr b="1" lang="ru-RU" sz="32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одобре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ая основная образовательная программа дошкольного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токол № 2/15 от 20.05.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3:26:33Z</dcterms:created>
  <dc:creator>User</dc:creator>
  <dc:description/>
  <dc:language>en-US</dc:language>
  <cp:lastModifiedBy>Пользователь</cp:lastModifiedBy>
  <cp:lastPrinted>2012-12-05T04:15:31Z</cp:lastPrinted>
  <dcterms:modified xsi:type="dcterms:W3CDTF">2023-12-15T13:52:35Z</dcterms:modified>
  <cp:revision>276</cp:revision>
  <dc:subject/>
  <dc:title>Опыт инклюзивного образования в Санкт-Петербурге</dc:title>
</cp:coreProperties>
</file>